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F25-B6FA-4044-85AD-D61032AC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693-2F4E-44C9-93EC-AAE4C19D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B7D-966F-4EDA-97D2-62710524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913-FEEF-4F6F-8725-382A452A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6E1-4DB2-4513-9D0D-84BFF126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B9A-1365-42EC-BC83-F763F85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675-04D2-40FE-8091-651A664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F3C-24B7-42FC-B4E8-B1A1702A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523-7D3B-4DD7-8081-411CC07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673-1276-496B-810F-211F547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C29-4E16-4962-B1F3-F0FC9A9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60F-7977-4828-9592-0FF7739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9BF8-5D83-4F96-BBF2-5A2CD327FE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1C4E-43E1-4288-BCA1-2A8F4E443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3429000"/>
            <a:ext cx="3527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rvizos comple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CBD-C6EB-40E5-AD56-FAD6128F1B5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A1138-D704-436F-ABE0-F0E05881A0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268280"/>
            <a:ext cx="7921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edores esc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77336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8.  ¿Teñen algún seguro os colaboradores dun comedor esco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227664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s colaboradores teñen cuberta a súa responsabilidade civil polo seguro que a Consellería ten contratado para os centros edu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552-43FA-45CF-ACC9-11D9BDCAE55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3C9F4-B778-4850-AD99-A2FAAA1EF6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180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557360"/>
            <a:ext cx="864216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un centro escolar o transporte escolar, combinado con outro centro, deixa ao alumnado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15 minutos antes do comezo das clases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 director/a estívose encargando persoalmente da vixilancia do alumnado nese período.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¿Pode adiantar o horario de entrada do profesorado e establecer quendas de garda para que todo o  profesorado colabore na citada vixilancia?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¿De ser así que procedemento tería que levar a cabo?  ¿Poderían incluírse estas gardas dentro das 5 horas de libre disposición semanais do profesor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125360"/>
            <a:ext cx="82818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ARDAS NO PERÍODO PREVIO AO COMEZO DAS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3933720"/>
            <a:ext cx="8642160" cy="22885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Unha sentenza  do Tribunal contencioso administrativo do Tribunal Superior de Xustiza de Galicia recoñece non contrario a dereito que todos os profesionais dun centro se ocupen de atender e vixiar ao alumnado transportado no tempo que medie entre a súa chegada ás instalacións do centro e o comezo das actividades propiamente lectivas. Tales períodos de tempo deben ser considerados como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NON L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dependentemente que o horario a cumprir polo profesorado apareza n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RRI,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debe concretarse cada ano na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PX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ese período de vixilancia e calquera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82D-1D79-4F63-BB0B-4063626751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3682B-974F-40AB-9427-D49B71ACEF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76640"/>
            <a:ext cx="79200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n ten a responsabilidade sobre os rapaces que teñen que vir no transporte escolar e veñen en m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557360"/>
            <a:ext cx="53276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Responsabilidade sobre o alumnado trans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429000"/>
            <a:ext cx="7920000" cy="20142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É responsabilidade dos pais garantir que o alumnado sube ao transporte escolar na parada correspon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 os pais/nais non exercen esa responsabilidade debe ser o centro o que comunique por escrito aos pais ou titores esa circunsta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 os pais pretenden que o alumno/a faga uso dun vehículo particular deberán comunicar ao centro tal circunstancia, facéndose cargo desa decisión e asumindo as responsabilidades que conl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809-7C01-466B-943C-EF223FF9A4F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C2EA4-B0A0-4842-B1BE-1D371499C6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773360"/>
            <a:ext cx="79200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 O Consello Escolar dun centro acorda que o alumnado pague o autobús cando se fai unha saída. Se algún alumno/a non paga, aínda contando coa autorización, ¿Pode o centro impedir que ese alumno/a realice a vis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268280"/>
            <a:ext cx="65516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ago do transporte nunha actividade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068640"/>
            <a:ext cx="7920000" cy="3111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 apartado 3.7 da Orde do 22-7-97 establece que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“A comunidade educativa, a través do Consello Escolar, fomentará a organización de actividades escolares complementarias e extraescolares gratuítas, que non supoñan custo para os pais, co fin de facilitar a máxima participación de todo o alumnado do centr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 non ser posible esta gratuidade, o centro debe fixar na PXA as condicións de participación de tal xeito que se fixen as condicións necesarias para a participación. Se estas condicións están fixadas na PXA o alumnado permanecerá no centro. Este “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arbitrará a forma máis conveniente para atender aos alumnos/as que non participen nelas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” (Apdo.1.2 do Cap. 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0B6-A851-4C99-A0A9-3793FFF07BB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C992C-28EB-406F-A259-F13C62938F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180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25360"/>
            <a:ext cx="82818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idador non comedor xestionado pola AN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77336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  ¿Ten obriga o coidador/ra de atender ao alumnado con necesidades específicas de apoio  educativo na hora do comedor xestionado pola AN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068640"/>
            <a:ext cx="7921440" cy="28371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 capítulo X dar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rde do 22-7-97,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fixa que  será o secretario do centro o encargado de organizar a xornada laboral do persoal de administración e servizos en función das necesidades organizativas do centro..... O coidador debe cumprir un horario de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37 horas e media semanais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. Ese horario pode ser fixado en función das necesidades que teña o centro que pode incluír ou non o horario do comedor. En calquera caso, tendo en conta, que o horario ordinario do alumnado é de 5 horas parece que non debería haber inconveniente para que o coidador completara as 7 horas e media diarias durante o servizo de com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621-D888-4E29-85EB-E1A1422F5E3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2BA0D-4BD8-4EBD-BF9E-E1AAEF649A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180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125360"/>
            <a:ext cx="82818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Responsabilidades do centro nun comedor xestionado pola AN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773360"/>
            <a:ext cx="7921440" cy="33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s comedores escolares xestionados polas ANPA non están contemplados na lexislación actual de comedores. Na Orde do 21 de febreiro de 2007 tan só se di que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"excepcionalmente, a Administración educativa poderá colaborar na xestión e organización do servizo cos respectivos concellos, deputacións ou outras institucións públicas ou privadas, así como con outras entidades ou colectivos, como poden ser as asociacións de nais e pais de alumnos e as súas federacións".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pregunta é,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¿Qué capacidade de xestión e de responsabilidade ten o centro escolar?. Estámonos a referir especialmente ao Consello Escolar e a Dirección do centro educativo. ¿Pode, por exemplo, decidir o Consello Escolar sobre a admisión do alumnado en ditos comedores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38B-C773-4CEB-B734-42C22E02C00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0210B-40C6-4F21-95B0-08D6754424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180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125360"/>
            <a:ext cx="82818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Responsabilidades do centro nun comedor xestionado pola AN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700280"/>
            <a:ext cx="8064360" cy="42087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ste tipo de servizos complementarios podémoslle dar o mesmo tratamento que ás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actividades  extraesco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artº 79 do ROC dise que “As administracións locais poderán colaborar cos centros educativos par impulsar actividades extraescolares e complementarias e promover a relación entre a programación dos centros e o contorno socioeconómico no que estes desenvolven o seu lab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apítulo IX, 2.3 da Orde do ROC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dise que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“Cando as actividades extraescolares sexan organizadas por entidades e deban realizarse dentro dos locais e instalación do centro, haberá que respectar a normativa reguladora da utilización destes locais...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ara a realización de ditas actividades é perceptiva a presentación por parte da entidade que as propoña da seguinte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documen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28F-2F12-491F-8F29-4A165288676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8C4B1-0E74-4AAA-97B1-CE0F78DF3B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8180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25360"/>
            <a:ext cx="82818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Responsabilidades do centro nun comedor xestionado pola AN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700280"/>
            <a:ext cx="8137440" cy="28371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1.-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Unha memoria descr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2.- A concreción do financiamento da ac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3.- A garantía da asunción plena da responsabilidade contractual    respecto do persoal que a vai desenvol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4.- Acreditación para a realización de tarefas ou actividades cando así estea estipulado. (Por exemplo carné  de manipulador de alimen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ste tipo de servizos organizados polo centro, por entidades sen ánimo de lucro, asociacións culturais, etc., igual cas actividades, debe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figurar na PX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 A participación nelas será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3CC-DEAC-469B-AEAD-11F42AC1AB6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04BEB-0621-4CED-BD42-F90A80BB32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268280"/>
            <a:ext cx="7921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edores esc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77336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5.  ¿Que obrigas ten un profesor/a colaborador no com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27664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stán fixadas no artº 8º,5 da Orde do 21 de febreiro de 2007 que regula a org. e funcionamento dos com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6.  ¿Teñen que axudar a comer a algún alumno/a en caso neces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494172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7.  ¿Perden o dereito ao paro os colaboradores dun comedor esco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64500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tre as funcións recolle a de 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gl-ES" sz="1800" spc="-1" strike="noStrike">
                <a:solidFill>
                  <a:srgbClr val="ff3300"/>
                </a:solidFill>
                <a:latin typeface="Arial"/>
              </a:rPr>
              <a:t>axudar ao alumnado que, por idade ou necesidades asociadas a condicións persoais específicas de discapacidade, necesiten a colaboración e soporte dun adulto nas actividades de alimentación e aseo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44500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n hai unha vinculación laboral nin unha remuneración por traballo. Tan só se dá unha gratificación por colaboración. Non perde dereito ao pa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AAF-1322-4430-B093-0FB9D3D730B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589BD-C86A-4A68-8D4E-6DB188A66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Educación</cp:lastModifiedBy>
  <dcterms:modified xsi:type="dcterms:W3CDTF">2009-11-09T07:35:53Z</dcterms:modified>
  <cp:revision>27</cp:revision>
  <dc:subject/>
  <dc:title>PREGUNTAS E RESPOSTAS</dc:title>
</cp:coreProperties>
</file>